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9762E-91E8-4DBD-9AB5-885A65AB1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2675A-2CCA-417C-B42B-2D066CECF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EBC12A64-34CE-4BC5-ACA6-C4F13016AEB7}"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ADE0067-4742-4D50-A44E-0A68C3927A6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935D59A-9EB5-48CC-A7BF-D0CF1B3FA86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0FB3E60-30A2-4C37-8270-990163DD3FDD}" type="datetime">
              <a:rPr b="0" lang="en-US" sz="1200" spc="-1" strike="noStrike">
                <a:solidFill>
                  <a:srgbClr val="000000"/>
                </a:solidFill>
                <a:latin typeface="Times New Roman"/>
                <a:ea typeface="Arial"/>
              </a:rPr>
              <a:t>07/31/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EFB5DFD-D20E-4DE4-AB92-A735811FE791}" type="datetime3">
              <a:rPr b="0" lang="en-US" sz="1200" spc="-1" strike="noStrike">
                <a:solidFill>
                  <a:srgbClr val="000000"/>
                </a:solidFill>
                <a:latin typeface="Times New Roman"/>
                <a:ea typeface="Arial"/>
              </a:rPr>
              <a:t>July 31,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5916243-D07E-4F43-9FAD-240B8E0ADB6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87D5B-7AE9-4B39-A666-38DBA5BEB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D365D-0535-4DF7-9A6F-D45A6DAB1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11F0A-9D67-4711-8DC1-546F621B3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7EB6B-5D24-4206-A10D-BB5170482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9D18E-466C-43E5-BA08-F883732D2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37BBD1-47ED-4A0C-BAA5-E7A856500C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940C7-3695-4FCD-B445-F0F6CF7B1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E7FB0-CCB6-42F5-9DA1-43302032A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E2519-1C8D-40E2-81FB-279F26643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7B35A-E622-484E-883B-F814FD899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5297C-88ED-4574-8DCF-79E2BD5AF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D8E1D-1FC4-4675-8D88-E1541B802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C1437-D38D-428D-BB43-693BE0CD1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DA19B-3210-453E-A9EB-42073BF17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AF2E5-FCBF-499B-A376-5A18FD863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2B004-7E60-436D-AED0-E3BC40F79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836918-5BA4-479B-B5FF-5FD4E2E66D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6A44A5-9982-40CB-ADEF-453AE9984E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F00ED-6A5A-4109-8C11-002199581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D7147-08F1-4B25-B22D-2B93C508A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FFDD5-8155-4B83-84C3-572037A68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A6B7A-C098-447B-B5D8-EF309BDA1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A9197-EED6-4289-896F-9E621374C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32021-040D-4D78-A40E-3AA19C0A5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447D7-5610-4D9A-9247-F4BDE7003C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35DC984-EFFD-4165-A45C-4ECEFF28BCE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31EC997-5877-456C-920F-764AA0C2A1F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1FEC502-1E1C-4BF6-9BA6-B2EF6ECC5F6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82F4-860B-4454-90FE-830CDA33EC7E}"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B7FCBD3-EDBB-4E9C-821E-9617760BA4F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A5421AD-FA07-46F2-9408-6D9108F6EE5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F3AE855-6A22-4D51-BE37-9052FCE73BC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